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FCF-C553-4932-841B-567CD93D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5E6-5451-4D47-90A2-51745624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116-9C54-4D23-A39E-4C1E38AA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A93-1591-46C5-9F41-FA0CACF1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3AC-8D18-458B-B864-93389486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37A-6786-46A2-BBD8-FB1EED8D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2BD-16D6-4022-B4AD-64A05C9A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7BE-84D5-4283-A31B-B6562AD9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2C4-6B74-4242-A534-39AE40AD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E78-7976-48FB-907D-B8CD4E7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608-864D-4C46-80F8-F42F48EE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9AA-5448-4CF3-B6C7-3B5E866A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897C-8ED1-437B-8D89-F70FB79BB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.40 a woman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r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6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her ha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ince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encour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 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lk, but it was not any better. Today, however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wa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use her right le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he feels pain 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movemen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examination we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ction of the hip and kne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and ankle freely movable,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: right groin and t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20 °- 90 ° flexion (contracture), abduction 0 ° - 10 °, ext. rot. 5 °-15 ° (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 shortening of the affected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cal statu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Which of these should be treated</a:t>
            </a:r>
            <a:br>
              <a:rPr sz="3600"/>
            </a:b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immediately (at 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 +  hip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exercises, hip ultrasound the next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82880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hip ultra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if it turns out to be indi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diatric emergency d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8.0 with normal differentia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: medium size effusion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in the right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Now what (01:00 AM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of the hip + hip puncture in gener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puncture in lo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ospital admission and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ctructions of strict resting, Rx for NSAR,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sient synovitis of the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–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rict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least 1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stay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OM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roxen syrup (NS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tructions in case of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ontrol ex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c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 if no improveme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 week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then 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done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vious septic arthritis of the hip (febrile child, CRP 120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ip) a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: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then antibiotic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, 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ptic 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ways consider the possibility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eomyel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op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RI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equi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 the correct operational thera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s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head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s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caps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he delay of treatment poses a major risk for aseptic necrosis of the femoral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ing afebrile 4-8 chil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hip synovitis should be sus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e septic arthritis, Perthes disease, slipped capital femoral epiph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hildren rec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onsequence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ct th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ld be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itial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the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ical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is 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ght-time sleep, ultrasound and laborator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: dela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ic arthritis, prescr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ng pero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iotics "just in case" (should be given iv or noth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quick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tic arthritis and se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home. Now my parent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le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 st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bed for a wee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Ninte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don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ssue analgesic prescription and examine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portant to ask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hur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the ch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uring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Chills?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y inf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t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ous pain 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ly at mo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m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lasts 2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ig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hu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ke u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h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 up to 37°C yesterday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day the temperature is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when moving or standing, no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and knee 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linical examination of lower ex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ferral to laboratory tests of inflammation (the next mo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lower extrem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i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u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° flex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p, we pay particular atten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racture (Thomas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functional difference in the length of the lower extrem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g length discre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ip inspec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less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thick layer of mus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35:27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